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7809-FB82-41EB-91E1-2527D274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E0B-9C88-485E-81D9-A670C7A7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1F920-5718-49FA-9841-20E98297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12DBB-843C-45A2-84C3-DAD725AD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069F1-E564-4A2C-B958-BA874AA3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B93C7-FE07-4A73-8F85-EB74C7DD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262CA-1444-4AFE-8497-FF5AA47C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1DB94-F466-4946-B8C3-A1003119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7DFAA-C6B3-40E3-BAF2-6D2707E9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621F0-2911-4776-BC83-336674E7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3EF3B-7167-462B-BE1C-DAAE97C1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16300-9E7C-4876-AA8A-B595E613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93A-BED4-4285-97CB-B0D9C7B8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327B5-13B6-4E54-B526-27968F5F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90B8D-4666-4BBF-9948-7F541186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1FF6B-4C80-4F37-991E-C3BCE808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6F6F1-CCA1-4A5A-95D7-5EAF6496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55BAD-DFDA-4F6F-9D25-0F0C2D67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3CB92-C484-449E-B1A6-BBEC9170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D3374-B2EB-49B5-AE41-A53B3F5E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3AD0F-5EF9-48DC-B9BD-8641C9DD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9E128-63EF-4864-BB00-069F3080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A79C0-5B34-40DD-B902-38156A16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9566-766E-4C83-A23A-BD12F712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61443-7D63-4012-8B2B-97825E88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858A8-832F-4826-A12B-280FEF2A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11A09-9A78-4695-961C-136176DD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10EBB-3F0D-411F-8ADE-2FED3BD2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1E001-3FBA-41D1-B8E8-9129E731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10FD2-A197-48A4-A256-F4E67568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DB372-1607-491E-AEE5-4ABB9A4A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25C3A-B986-4476-8C9F-14D32E43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C2A83-BF52-41B5-A4B7-36582B7D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E369D-7C0F-489C-A895-9DA95E55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68D0-1C4E-48B7-B24A-17744493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AB213-6920-4178-80D2-21F53694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983F3-4995-446B-B466-CE525741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26B5D-594A-44FF-9DAC-88C76B26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0F731-BEB4-45A7-9E04-BE8A5AB0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9A14E-E54C-42C9-8468-0502E254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EBB5B-0A7C-4CBE-9523-B59249B3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780C3-D93D-48D9-9252-94803D0A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5FB68-01CF-4FEF-A3E4-17ACE76B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ECA82-28AB-4187-89D0-71A970BC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2C2D6-B3DC-41D3-928C-48224979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1F97-EB39-475C-9C87-DA1280B2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A851D-1D19-460E-BB88-720153FF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84709-10B4-4F52-8949-B63BF3D6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CFB1F-D496-4777-81E4-BA089DED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DFF79-C27A-46C6-A5BF-998B6A50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B959C-E6A7-4033-ADE6-29FEF110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12E3D-9FB5-4441-8283-FF890D17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EC465-3F2B-422A-9479-066CC710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3DCCA-C592-41BA-AD93-D78D9AE2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D133C-2AAA-42C6-805E-353885E9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65916-836F-4491-B339-A60CB69E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58A4-7583-4AB1-A64F-932C90CC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804232-3608-42BB-890F-FB17A610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3D267-F5BB-4898-A790-4733C278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58BEF-2648-4FF7-8AB9-F59338AA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F1242-418C-46EB-8266-1AEC1E27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5872F-7D65-4D47-85C8-A55B21CB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D76DA6-0726-441D-9219-7D66AFB0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C13DE-23B7-4D61-BA37-57AFB64D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CECA65-F85E-4D21-BF19-4880D7E4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EEF42-19C8-46E8-A524-E7970CF9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7695C3-C57E-49F9-A9B6-335ACBD8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B078-5D4A-42F2-A756-06F98144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9A155B-3A2C-43B8-858B-5C1A4CC8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3B211F-4B13-4534-BCBA-C95D6E89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00DF3C-6710-4413-95C4-DE5A32C6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E99901-AF87-45E2-8CEC-FC5B3CAD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328ABB-C4A3-42F8-B44C-FDF83429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DF1138-DAA9-47E8-854E-E81A04B0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6E9064-C220-4ED6-8329-3166F2D4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686031-B94B-49A7-BBFE-2AEDEF95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CD4376-1161-4968-8CBC-BCF8C099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E3C280-C72E-47C9-808B-ED5D5F9B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88D4-26D8-4E81-97A4-DE963714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1A1C20-6052-41F7-94E1-4B68D8F7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ECD1E5-B5C3-42A3-97A1-3D02BEF5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877054-80EC-4B99-B0B6-D1C4941E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541A3-ECEC-446D-BAF0-34602F20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DDB75-B061-4021-89BC-BF4CA5B5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C42C3F-ED64-48B0-B5DA-F1D4D3AE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6B8241-43A4-4F4C-80D5-0C8B7D7E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ABFB5F-EC6C-47FB-863B-966A4B5A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34813F-E2B4-4269-856E-4FD77E46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6C5716-57F1-404E-A0F6-1C5861A2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D321-713F-4804-8E22-25364C51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D0C34F-B779-4E33-B29E-D7339368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759C69-43DB-4AAF-98D7-5F5D8172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C9A14D-D982-439B-8363-B32C28C4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027A81-2150-4B2E-A508-3E6FE789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F866FD-CCE5-48C2-B66D-99B5A7ED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274235-8B25-4CA5-BD6F-469B1B66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118470-6337-4A89-893A-741352FD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364AD2-31D5-402E-9970-3FE09C35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38BFC7-0922-428D-A38F-D4BE785F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089751-B7EC-462B-9C94-37C71C66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77B0-8C6F-4207-AB05-4464487C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A64EA1-F210-4BF6-9784-825A07D3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05E94-E91F-426C-BC0E-C2AF1262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A204B8-CFFF-4A00-B3C7-0CB5F7CC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10885D-E652-4B50-9009-EE5C409C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069A03-559A-4D4C-8097-67164FF4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2C15A8-8004-44E0-8D82-F268CC6E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7751C3-900D-4B11-8912-A9C4CF83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5826D6-1591-48D0-955F-1901447C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E9B85D-9569-4597-84A4-D57DC003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F0DB3D-13CF-494B-AD1C-95B0AE7F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C536-F0C9-4F72-8A01-27E50561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72A3-48AB-4F4D-9D66-6D71A58B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358ED5-67C2-4BCC-AB15-8CA5D739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402AB5-5680-4D81-BD07-6793EBE0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F552AB-A902-4BC1-B174-2D19B027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00B50E-B96F-4CDA-85E9-E3FA8791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F5E21C-EB84-4D16-B1C7-44EC5153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9F4631-C0C3-4B59-92A7-1C39E2FC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5DAE3F-82A4-45E1-918F-E0A8B6CB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FC0005-F016-406B-ADC2-8C6AAA6C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8E3D97-58D9-4C29-A72E-AE3B4F33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6500A3-B39F-4D58-BCD6-278FACAA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EFFF-2C83-4962-9ABF-63585CD5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6C7FDB-C70A-45EE-BD51-DFE362B6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FFF40C-0627-4FB0-AE04-DE80313E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CF2CA4-7E50-4DF1-98A6-0C18A481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559669-83DD-4C55-81DA-A5C54107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5C8D16-B659-4D27-9853-9C2EBC7C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C36A1F-86AB-4A43-9850-53A254F8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6280BC-26C9-4A87-8AEE-B1843C98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A88AB3-C4B1-41E5-9C0E-C3DCC1AC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388544-06E8-4A53-A3E3-D5E4CD1F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97A0BA-9CEE-4C74-9A41-24F0D695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9DBA-E7E7-40BB-9123-9A6F7AB1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FD0648-BD77-4684-B79E-6B5D4C47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F3E8AF-F5D6-44AF-A167-EA42E100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237A16-F65F-4EEA-95C0-8A445959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5E1016-800F-40AB-9D69-F4677CA2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9237F7-AFDD-48AC-956C-D1D7C213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0FAAD5-6AE6-4D1E-AE73-379DC2EB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155E23-0640-49E8-9072-761A8E02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34FA76-52C5-4BBA-9763-3DECFB5C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99E305-92D7-4E5C-98D3-47EB9D3B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C1616E-A09B-4D6B-AB07-D5D107D5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C040-2A63-4ADC-AA17-4CF3B681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521ABB-DCAB-4E5B-8DE8-64947DCC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97D131-9750-4A51-833C-1FA9B3B9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C9FA1D-F62B-4CA6-9067-A0DCF7E2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87365E-DD08-4F6A-9BFD-819CB1C4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531051-161E-4809-A0AF-EE24B888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E6FD6B-8EFF-412B-ABD6-293EA4CC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171B68-C378-42F9-B135-852566BD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EA448E-6CC5-4C55-BBA6-743F18B3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AD8E7A-A1D4-4768-A4ED-28B07814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02E385-2D45-4EC0-8B40-420692C0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201A-8980-46AF-9992-6004A82B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D42196-966C-4BED-949C-30DB7F6E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9BE8FC-E73A-406A-A37F-80224CD3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5EBEE2-E8A3-466F-A6A2-3618EC60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E772D4-AC4C-46B6-995F-639F8A7C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2DFD61-3896-46BC-A478-3F3DB59A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052AAB-8BA7-49FD-A07B-20455F44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2F956F-4281-4B3C-8522-95239514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27CE4B-D494-4683-AD1B-6C4E54AC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83D82B-F71A-4BC5-9F43-B1E1853C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C00906-C459-4B98-898D-7778C42C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DB9BA-7CBD-4DE7-A091-5BF9BB32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11CA00-361C-4009-9102-A7AA83E2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17FF81-A3DD-4669-8100-9F63976E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73D5EA-B07F-49E0-A6D1-BDFFE71D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4A3444-5633-477D-82C1-C055B7E8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4D284D-DF8C-4F26-B983-B440DC87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B38C96-85C8-4328-9647-964CC70A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411B3D-4728-46C9-B2B4-57CEDE97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D16C8B-134E-4A24-AEF5-C462A472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41DF93-19EC-48D8-A2D9-C160FC77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8F86BB-B199-4C39-94DC-A5CBD593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43FC6-58C0-41AC-826C-EAF5B5D5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A95AF7-0F93-476B-B772-07495E18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07C908-74D9-4DFD-87BD-1F5518B4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74DECC-B1A9-43E5-AC50-29D72985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912C78-DCBF-41C7-A69A-C62BDD19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02A75A-DA5A-47EF-8345-08CA1054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3EC95E-BC5A-4716-A74C-389FFEB5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4BD0AE-2AAB-4B2B-A2D9-7133A281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032B8C-3938-480B-85CC-CC5201DD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6A6B42-C633-464C-968B-6C3E0521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ECC894-EFAB-4DCA-B80F-DA357207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84CCB0-885E-47A9-ACF5-53591E5A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56EB68-2CC9-4B20-AEBD-2D14BCBD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CEEB11-0B18-49EB-A583-D1817B63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9F5125-E1E3-4409-893C-F84C436B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ECD060-04A2-4678-9EAE-9A738DDD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08DBBC-C0CB-495A-8A29-26B62A94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13A7B0-DA57-487F-8AA7-5BE137DA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2162D8-D1D2-453F-9653-0CDF6524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6591E3-F0BA-454E-9C95-350C3351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64EC52-94E0-4066-8830-A9C868D4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1FE6AF-36A6-4FAD-BC7A-E07320C2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2D283-17D7-49BB-B843-C47854FF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13E41B-D5B7-4F3D-AF60-9BA63C5F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4EA2DE-8396-4598-91CD-3EEF9EA0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0EC854-DBCD-474E-9FB0-D9024832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BAA694-017B-4EB1-8843-9C0FFB81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4E70C9-D7F9-44C8-9064-529A74ED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B106F4-B89F-4CE5-BD1A-89D27A02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7DDC0B-0DF4-4154-BC70-6CDC0809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2A8F6E-5A26-459F-AE29-FB9B29D8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022788-201D-46ED-B535-71D1269D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34717-AB04-4949-B316-272A859A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9A41-7EA9-4FE2-BCED-C48EC308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1D147-F669-4639-8516-D7A9D3F9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2C90D-284F-42B3-B163-DFB458F1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C70F3-E4B2-42D0-8377-7DC29984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896F8-2A8D-437D-B892-17E81A85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44C74-27B3-4536-BFF6-6A02C90C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F1346-8334-44BD-9D70-4240CEB5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166FD-335A-409C-8B34-4B2B19AC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2C583-B2B1-4C42-8A5A-7A071567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A0C46-13E7-4937-96AF-A674DCBA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9F017-FE52-4D9C-B815-478A9786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A59B-B5BE-41CE-A4F9-23FAA510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42881-E318-4785-BA5A-C0916F39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82CC2-5F20-4AC2-8545-8FC3D953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13973-9C06-424B-894A-7E756108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CEB9B-62EB-4B85-9AC3-D5CC4523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B2CE9-22C2-49A9-9616-56929113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FFF76-907D-4E51-B868-C67B7AB7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FEFDF-E336-4B8D-A9DA-CCD34928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B1013-F658-441E-A054-E34A497B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34981-E2C9-4E06-9B2D-C1D683AF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165F7-B1E2-457B-AE0B-187B8C62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3D7-79D2-410F-948E-F9814F64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AC151-F36E-434C-86F3-253366F3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60849-1461-4C5B-A51E-D2D89467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9CA65-8314-4802-994A-8DA98635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E901B-7392-4AAE-A24A-54539C14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FAF48-0106-46D0-882F-E5081C56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A06C6-7E19-410A-960B-B753877F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3A10F-9E6E-4FEB-84F1-D1B35FF5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510A6-B741-4E10-B687-62D6BA8E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EB635-D8FD-4B04-BCF4-8571EC94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C3150-3C70-477F-8F58-557F18E9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19C-F911-4A7F-8199-0D1320D5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1F563-AAB9-4FC5-BFA6-AC334314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7D5DB-1800-4005-BA4A-24E1B91E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663B7-4A75-4C35-8288-B0E7A428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DC442-18DB-4368-B6A3-C030570C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B4CDF-A647-475E-957E-5E9D8975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9A90B-BEC7-400C-A80C-6029EF02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03A6A-65DD-4F92-9F71-E76C574D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D9A5E-613A-48CA-A8C9-15F26C21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CE661-ADC5-4CB0-9335-6F08435F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D13F5-BFF3-4C9D-A8C5-6C69772A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39D-C043-4DBE-AAA3-DF3BA99E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6F740-17EB-4A34-A9DD-26E672D7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70632-0900-4D76-A98D-8D0945AB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0E35F-9BD0-4130-8069-4499D4FF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214BF-D1E9-42FF-8753-6C5B4E28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CFA01-0E19-488F-8B88-46D8E449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07375-9F5A-4E49-B6D4-761DC982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50B31-77FD-4321-9928-31EB6B51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BC4E8-0326-4231-9631-7C84DCBD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8B61E-4437-4995-B2D2-F54199F2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56255-946A-4529-8255-905ED362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1A88-D0EC-4A47-864C-D06A26F5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ABC4C-71BD-446F-B2D3-53C96B01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C428C-CFC1-47A0-95C1-B3DEF5ED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3D171-7A4F-4382-A8F8-B150A85A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A6320-15B7-47DA-A6E9-7BB82FDE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48EC7-BDB9-4972-B25F-BDDB4E44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E3650-1DF9-4BDC-A8A2-83546615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DD726-9921-461C-A96A-232D58B5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2F2A3-BA0D-4589-8964-5F87C810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4957F-2048-409C-AB87-F4BA37C5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262FC-91CB-433D-836C-4293E05A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2CD0-5022-47CF-8110-DF80F5CA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59E87-3529-4D5E-BA55-80A909EA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B8AD9-D374-46B7-88CE-85AEBEEE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1B771-C16F-4A60-884A-3509AB33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9F02B-83B1-41E7-8909-751462A1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C80FA-FAC9-4715-A37A-C35FA1E1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AB473-C298-49BF-845E-B180005D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C5732-1932-43F5-890C-68488401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3239D-AA88-4ED0-B2F9-1582D193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B369D-7A4A-4A52-B7E1-7BB53777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121F3-5FCB-468F-B924-2E290E2B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241.xml"/><Relationship Id="rId35" Type="http://schemas.openxmlformats.org/officeDocument/2006/relationships/slideLayout" Target="../slideLayouts/slideLayout242.xml"/><Relationship Id="rId36" Type="http://schemas.openxmlformats.org/officeDocument/2006/relationships/slideLayout" Target="../slideLayouts/slideLayout243.xml"/><Relationship Id="rId37" Type="http://schemas.openxmlformats.org/officeDocument/2006/relationships/slideLayout" Target="../slideLayouts/slideLayout244.xml"/><Relationship Id="rId38" Type="http://schemas.openxmlformats.org/officeDocument/2006/relationships/slideLayout" Target="../slideLayouts/slideLayout245.xml"/><Relationship Id="rId39" Type="http://schemas.openxmlformats.org/officeDocument/2006/relationships/slideLayout" Target="../slideLayouts/slideLayout246.xml"/><Relationship Id="rId40" Type="http://schemas.openxmlformats.org/officeDocument/2006/relationships/slideLayout" Target="../slideLayouts/slideLayout247.xml"/><Relationship Id="rId41" Type="http://schemas.openxmlformats.org/officeDocument/2006/relationships/slideLayout" Target="../slideLayouts/slideLayout248.xml"/><Relationship Id="rId42" Type="http://schemas.openxmlformats.org/officeDocument/2006/relationships/slideLayout" Target="../slideLayouts/slideLayout249.xml"/><Relationship Id="rId43" Type="http://schemas.openxmlformats.org/officeDocument/2006/relationships/slideLayout" Target="../slideLayouts/slideLayout250.xml"/><Relationship Id="rId44" Type="http://schemas.openxmlformats.org/officeDocument/2006/relationships/slideLayout" Target="../slideLayouts/slideLayout251.xml"/><Relationship Id="rId4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253.xml"/><Relationship Id="rId32" Type="http://schemas.openxmlformats.org/officeDocument/2006/relationships/slideLayout" Target="../slideLayouts/slideLayout254.xml"/><Relationship Id="rId33" Type="http://schemas.openxmlformats.org/officeDocument/2006/relationships/slideLayout" Target="../slideLayouts/slideLayout255.xml"/><Relationship Id="rId34" Type="http://schemas.openxmlformats.org/officeDocument/2006/relationships/slideLayout" Target="../slideLayouts/slideLayout256.xml"/><Relationship Id="rId35" Type="http://schemas.openxmlformats.org/officeDocument/2006/relationships/slideLayout" Target="../slideLayouts/slideLayout257.xml"/><Relationship Id="rId36" Type="http://schemas.openxmlformats.org/officeDocument/2006/relationships/slideLayout" Target="../slideLayouts/slideLayout258.xml"/><Relationship Id="rId37" Type="http://schemas.openxmlformats.org/officeDocument/2006/relationships/slideLayout" Target="../slideLayouts/slideLayout259.xml"/><Relationship Id="rId38" Type="http://schemas.openxmlformats.org/officeDocument/2006/relationships/slideLayout" Target="../slideLayouts/slideLayout260.xml"/><Relationship Id="rId39" Type="http://schemas.openxmlformats.org/officeDocument/2006/relationships/slideLayout" Target="../slideLayouts/slideLayout261.xml"/><Relationship Id="rId40" Type="http://schemas.openxmlformats.org/officeDocument/2006/relationships/slideLayout" Target="../slideLayouts/slideLayout262.xml"/><Relationship Id="rId41" Type="http://schemas.openxmlformats.org/officeDocument/2006/relationships/slideLayout" Target="../slideLayouts/slideLayout263.xml"/><Relationship Id="rId42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D544-17AC-4AF9-BABE-402682B64EB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6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6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28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ftr" idx="29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A585-A75C-48E4-AACC-4A2E045B9F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3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3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3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BD46-9BA6-4305-B253-BEDFAABF3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dt" idx="3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ftr" idx="3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sldNum" idx="3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9829-31E3-4DD5-9299-FD22725E7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758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761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3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5D40-96A1-4682-96D1-E0B81A874EB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812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813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819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dt" idx="4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ftr" idx="4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sldNum" idx="4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CE17-F717-4E06-8264-A3D2C93A57C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6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4" name="PlaceHolder 1"/>
          <p:cNvSpPr>
            <a:spLocks noGrp="1"/>
          </p:cNvSpPr>
          <p:nvPr>
            <p:ph type="dt" idx="4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ftr" idx="4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F09F-CCF3-470F-94CB-349A06419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1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dt" idx="4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4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4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4578-9E28-48F0-9478-93AE13645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96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6874-331C-4420-B5A1-4A41D206293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00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9" name="PlaceHolder 1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A46F-0A07-49CC-B20D-7E371ED4504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9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050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1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52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5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ftr" idx="5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sldNum" idx="5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EAB5-C9A9-456F-9FDF-A637CF4D01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1DA4-5A84-4B78-8BC5-45809BEAE49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09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09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10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dt" idx="58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ftr" idx="59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sldNum" idx="6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E004-234E-4CE5-9C3F-78D5D06642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14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15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15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15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5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6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6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7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8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6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6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6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3A45-7594-4882-AB79-E11285007D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4"/>
    <p:sldLayoutId id="2147483910" r:id="rId35"/>
    <p:sldLayoutId id="2147483911" r:id="rId36"/>
    <p:sldLayoutId id="2147483912" r:id="rId37"/>
    <p:sldLayoutId id="2147483913" r:id="rId38"/>
    <p:sldLayoutId id="2147483914" r:id="rId39"/>
    <p:sldLayoutId id="2147483915" r:id="rId40"/>
    <p:sldLayoutId id="2147483916" r:id="rId41"/>
    <p:sldLayoutId id="2147483917" r:id="rId42"/>
    <p:sldLayoutId id="2147483918" r:id="rId43"/>
    <p:sldLayoutId id="2147483919" r:id="rId44"/>
    <p:sldLayoutId id="2147483920" r:id="rId4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2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2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2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2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2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dt" idx="6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 type="ftr" idx="6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 type="sldNum" idx="6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F820-4EEB-4E37-A52D-2A4A8D5E76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1"/>
    <p:sldLayoutId id="2147483923" r:id="rId32"/>
    <p:sldLayoutId id="2147483924" r:id="rId33"/>
    <p:sldLayoutId id="2147483925" r:id="rId34"/>
    <p:sldLayoutId id="2147483926" r:id="rId35"/>
    <p:sldLayoutId id="2147483927" r:id="rId36"/>
    <p:sldLayoutId id="2147483928" r:id="rId37"/>
    <p:sldLayoutId id="2147483929" r:id="rId38"/>
    <p:sldLayoutId id="2147483930" r:id="rId39"/>
    <p:sldLayoutId id="2147483931" r:id="rId40"/>
    <p:sldLayoutId id="2147483932" r:id="rId41"/>
    <p:sldLayoutId id="2147483933" r:id="rId42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33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33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34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 type="dt" idx="6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 type="ftr" idx="6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 type="sldNum" idx="6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ED18-08E4-4068-8F7F-24056A371B7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8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8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0" name="PlaceHolder 1"/>
          <p:cNvSpPr>
            <a:spLocks noGrp="1"/>
          </p:cNvSpPr>
          <p:nvPr>
            <p:ph type="dt" idx="7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ftr" idx="7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 type="sldNum" idx="7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C834-9E51-4323-8456-97A5F4A8071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79CF-0C37-4ACF-ABBA-F81E9AFA48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687A-2E2F-457D-B51B-840185BAC4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6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EEDA-D04A-40D6-A178-075A85FD9D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1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EE53-1EF7-4D48-8FBA-A4E222EE8C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DAC5-2FD1-4AA9-BB1C-1A244BEA8F66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4515-C9D3-4628-8335-913588ED7147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5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6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25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26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3C69-8A5A-4AB9-A2B4-AE91F005E6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4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4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0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orównanie budowy różnych rodzajów komór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efinicja komórki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ypy komóre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odele budowy wybranych typów komóre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orównanie budowy (tabela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echy charakterystyczn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agadnienia do dyskusji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prawdź swoje wiadomości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echy charakterystyczn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Komórka bakter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*brak ją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*ściana komórkowa z murei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*chemosynte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echy charakterystyczn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omórka rośli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*ściana komórkowa z celuloz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*plasty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250" autoRev="1" fill="hold"/>
                                        <p:tgtEl>
                                          <p:spTgt spid="14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chy charakterystycz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mórka zwierzę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brak ściany komórkowe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echy charakterystycz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omórka grzy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*ściana komórkowa z chity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*dikariofa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prawdź swoje wiadomośc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W wykropkowane miejsca wstaw odpowiedni wyraz (roślinna, zwierzęca, bakteryjna, grzyba) w odpowiedniej formi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1.Komórka autotroficzna może należeć do królestwa ……….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lub do królestwa ……………… 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2. Chemoautotrofizm jest charakterystyczny dla ……….. 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3. Plastydy są specyficzne dla ……….. 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4. Jądro nie występuje u ……….. 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5. Jeżeli ścianę komórkową buduje chityna to komórka należy do świata ………… 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6. Ściana komórkowa zbudowana z mureiny jest charakterystyczna dla …………. a zbudowana z celulozy dla……….. 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"/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"/>
                                        <p:tgtEl>
                                          <p:spTgt spid="1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1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1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"/>
                                        <p:tgtEl>
                                          <p:spTgt spid="1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1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400" fill="hold"/>
                                        <p:tgtEl>
                                          <p:spTgt spid="1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"/>
                                        <p:tgtEl>
                                          <p:spTgt spid="1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400" fill="hold"/>
                                        <p:tgtEl>
                                          <p:spTgt spid="1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00" fill="hold"/>
                                        <p:tgtEl>
                                          <p:spTgt spid="1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"/>
                                        <p:tgtEl>
                                          <p:spTgt spid="1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400" fill="hold"/>
                                        <p:tgtEl>
                                          <p:spTgt spid="1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00" fill="hold"/>
                                        <p:tgtEl>
                                          <p:spTgt spid="1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"/>
                                        <p:tgtEl>
                                          <p:spTgt spid="1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400" fill="hold"/>
                                        <p:tgtEl>
                                          <p:spTgt spid="1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400" fill="hold"/>
                                        <p:tgtEl>
                                          <p:spTgt spid="1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"/>
                                        <p:tgtEl>
                                          <p:spTgt spid="1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400" fill="hold"/>
                                        <p:tgtEl>
                                          <p:spTgt spid="1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400" fill="hold"/>
                                        <p:tgtEl>
                                          <p:spTgt spid="1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"/>
                                        <p:tgtEl>
                                          <p:spTgt spid="1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400" fill="hold"/>
                                        <p:tgtEl>
                                          <p:spTgt spid="1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400" fill="hold"/>
                                        <p:tgtEl>
                                          <p:spTgt spid="1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"/>
                                        <p:tgtEl>
                                          <p:spTgt spid="1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400" fill="hold"/>
                                        <p:tgtEl>
                                          <p:spTgt spid="1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400" fill="hold"/>
                                        <p:tgtEl>
                                          <p:spTgt spid="1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prawdzian ciąg dalsz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7. Chromosomy nie występują  u ……………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8. Komórki dikariotyczne występują u …………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9. Poliploidalność u zwierząt jest letalna można ją spotkać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u organizmów należących do świata ……………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10. Jeżeli w cytoplazmie występują rybosomy o stałej sedymentacji 80S to komórka należy do ……… lub ……….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lub………...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agadnienia do dyskusji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1.Czy brak budowy komórkowej wyklucza istnienie życi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2.Czy wirusy i priony to istoty żyw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Zajmij swoje stanowisk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                                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Elżbieta Szewcza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250" autoRev="1" fill="hold"/>
                                        <p:tgtEl>
                                          <p:spTgt spid="14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cja komórk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mórka to podstawowa jednostka funkcjonalna i strukturalna wszystkich organizmów żywy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łówne typy komórek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35" name=""/>
          <p:cNvGrpSpPr/>
          <p:nvPr/>
        </p:nvGrpSpPr>
        <p:grpSpPr>
          <a:xfrm>
            <a:off x="1557360" y="2806560"/>
            <a:ext cx="6172200" cy="1143000"/>
            <a:chOff x="1557360" y="2806560"/>
            <a:chExt cx="6172200" cy="1143000"/>
          </a:xfrm>
        </p:grpSpPr>
        <p:cxnSp>
          <p:nvCxnSpPr>
            <p:cNvPr id="1436" name="_s114713"/>
            <p:cNvCxnSpPr>
              <a:stCxn id="1437" idx="0"/>
              <a:endCxn id="1438" idx="2"/>
            </p:cNvCxnSpPr>
            <p:nvPr/>
          </p:nvCxnSpPr>
          <p:spPr>
            <a:xfrm flipV="1" rot="16200000">
              <a:off x="5728680" y="2177280"/>
              <a:ext cx="229320" cy="2400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39" name="_s114711"/>
            <p:cNvCxnSpPr>
              <a:stCxn id="1440" idx="0"/>
              <a:endCxn id="1438" idx="2"/>
            </p:cNvCxnSpPr>
            <p:nvPr/>
          </p:nvCxnSpPr>
          <p:spPr>
            <a:xfrm flipV="1" rot="16200000">
              <a:off x="4928760" y="2977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41" name="_s114710"/>
            <p:cNvCxnSpPr>
              <a:stCxn id="1442" idx="0"/>
              <a:endCxn id="1438" idx="2"/>
            </p:cNvCxnSpPr>
            <p:nvPr/>
          </p:nvCxnSpPr>
          <p:spPr>
            <a:xfrm flipH="1" flipV="1" rot="5400000">
              <a:off x="4128840" y="2977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43" name="_s114709"/>
            <p:cNvCxnSpPr>
              <a:stCxn id="1444" idx="0"/>
              <a:endCxn id="1438" idx="2"/>
            </p:cNvCxnSpPr>
            <p:nvPr/>
          </p:nvCxnSpPr>
          <p:spPr>
            <a:xfrm flipH="1" flipV="1" rot="5400000">
              <a:off x="3328920" y="2177280"/>
              <a:ext cx="229320" cy="2401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438" name="_s114705"/>
            <p:cNvSpPr/>
            <p:nvPr/>
          </p:nvSpPr>
          <p:spPr>
            <a:xfrm>
              <a:off x="3957840" y="2806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komórk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_s114706"/>
            <p:cNvSpPr/>
            <p:nvPr/>
          </p:nvSpPr>
          <p:spPr>
            <a:xfrm>
              <a:off x="1557360" y="3492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roślin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_s114707"/>
            <p:cNvSpPr/>
            <p:nvPr/>
          </p:nvSpPr>
          <p:spPr>
            <a:xfrm>
              <a:off x="3157560" y="3492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zwierzę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_s114708"/>
            <p:cNvSpPr/>
            <p:nvPr/>
          </p:nvSpPr>
          <p:spPr>
            <a:xfrm>
              <a:off x="4757760" y="3492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bakter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_s114712"/>
            <p:cNvSpPr/>
            <p:nvPr/>
          </p:nvSpPr>
          <p:spPr>
            <a:xfrm>
              <a:off x="6357960" y="3492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grzyb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estawienie budowy różnych typów komóre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1"/>
          <a:stretch/>
        </p:blipFill>
        <p:spPr>
          <a:xfrm>
            <a:off x="1519200" y="1598760"/>
            <a:ext cx="1909800" cy="2174760"/>
          </a:xfrm>
          <a:prstGeom prst="rect">
            <a:avLst/>
          </a:prstGeom>
          <a:ln w="0">
            <a:noFill/>
          </a:ln>
        </p:spPr>
      </p:pic>
      <p:pic>
        <p:nvPicPr>
          <p:cNvPr id="1447" name="" descr=""/>
          <p:cNvPicPr/>
          <p:nvPr/>
        </p:nvPicPr>
        <p:blipFill>
          <a:blip r:embed="rId2"/>
          <a:stretch/>
        </p:blipFill>
        <p:spPr>
          <a:xfrm>
            <a:off x="5398920" y="1598760"/>
            <a:ext cx="2530800" cy="2174760"/>
          </a:xfrm>
          <a:prstGeom prst="rect">
            <a:avLst/>
          </a:prstGeom>
          <a:ln w="0">
            <a:noFill/>
          </a:ln>
        </p:spPr>
      </p:pic>
      <p:pic>
        <p:nvPicPr>
          <p:cNvPr id="1448" name="" descr=""/>
          <p:cNvPicPr/>
          <p:nvPr/>
        </p:nvPicPr>
        <p:blipFill>
          <a:blip r:embed="rId3"/>
          <a:stretch/>
        </p:blipFill>
        <p:spPr>
          <a:xfrm>
            <a:off x="1225440" y="3921120"/>
            <a:ext cx="2494080" cy="2174760"/>
          </a:xfrm>
          <a:prstGeom prst="rect">
            <a:avLst/>
          </a:prstGeom>
          <a:ln w="0">
            <a:noFill/>
          </a:ln>
        </p:spPr>
      </p:pic>
      <p:pic>
        <p:nvPicPr>
          <p:cNvPr id="1449" name="" descr=""/>
          <p:cNvPicPr/>
          <p:nvPr/>
        </p:nvPicPr>
        <p:blipFill>
          <a:blip r:embed="rId4"/>
          <a:stretch/>
        </p:blipFill>
        <p:spPr>
          <a:xfrm>
            <a:off x="5792760" y="4162320"/>
            <a:ext cx="23036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84" dur="2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del budowy komórki bakteri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51" name="" descr=""/>
          <p:cNvPicPr/>
          <p:nvPr/>
        </p:nvPicPr>
        <p:blipFill>
          <a:blip r:embed="rId1"/>
          <a:stretch/>
        </p:blipFill>
        <p:spPr>
          <a:xfrm>
            <a:off x="2786040" y="1817640"/>
            <a:ext cx="35719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del budowy komórki roślinnej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53" name="" descr=""/>
          <p:cNvPicPr/>
          <p:nvPr/>
        </p:nvPicPr>
        <p:blipFill>
          <a:blip r:embed="rId1"/>
          <a:stretch/>
        </p:blipFill>
        <p:spPr>
          <a:xfrm>
            <a:off x="2095560" y="1722600"/>
            <a:ext cx="49528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del budowy komórki zwierzęcej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55" name="" descr=""/>
          <p:cNvPicPr/>
          <p:nvPr/>
        </p:nvPicPr>
        <p:blipFill>
          <a:blip r:embed="rId1"/>
          <a:stretch/>
        </p:blipFill>
        <p:spPr>
          <a:xfrm>
            <a:off x="1990800" y="1600200"/>
            <a:ext cx="51609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del budowy komórki grzyb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57" name="" descr="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2124000" y="2276640"/>
            <a:ext cx="4824360" cy="30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orównanie budowy wybranych typów komóre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9" name=""/>
          <p:cNvGraphicFramePr/>
          <p:nvPr/>
        </p:nvGraphicFramePr>
        <p:xfrm>
          <a:off x="611280" y="1628640"/>
          <a:ext cx="8229600" cy="4929480"/>
        </p:xfrm>
        <a:graphic>
          <a:graphicData uri="http://schemas.openxmlformats.org/drawingml/2006/table">
            <a:tbl>
              <a:tblPr/>
              <a:tblGrid>
                <a:gridCol w="1657080"/>
                <a:gridCol w="1635480"/>
                <a:gridCol w="1644480"/>
                <a:gridCol w="1646280"/>
                <a:gridCol w="164628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ywa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omó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akter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Komórk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roślin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Komó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zwierzę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Komó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grzy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ściana komórkow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ł budulcowy ścia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re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uloz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ty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tyd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ochond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ybosom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ąd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ktura D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ga cząstecz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postaci chromosomó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postaci chromosomó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postaci chromosomó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oidalnoś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, 2n, 3n, 4n,….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,(gamety –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, 2n, n+n(dikariofaz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żywiani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erotrofy, chemoautotrofy,fotoautotrof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toautotrof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erotrof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erotrof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77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770" fill="hold"/>
                                        <p:tgtEl>
                                          <p:spTgt spid="1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2:13:54Z</dcterms:created>
  <dc:creator>Administrator</dc:creator>
  <dc:description/>
  <dc:language>en-US</dc:language>
  <cp:lastModifiedBy>Administrator</cp:lastModifiedBy>
  <dcterms:modified xsi:type="dcterms:W3CDTF">2003-04-04T11:24:29Z</dcterms:modified>
  <cp:revision>6</cp:revision>
  <dc:subject/>
  <dc:title>Porównanie budowy różnych rodzajów komórek</dc:title>
</cp:coreProperties>
</file>